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578-02A1-44C1-8B68-D47A8A0C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4A1-C20A-428D-9118-4D7AB972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3EA-5597-43E2-A6F2-556E0592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D60-CA40-4E92-9DA2-DB366DC9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85B-BC54-42A0-9949-29217910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3DE-D790-461D-A9A7-D2D9E927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EAF-EEDF-4DF9-9E42-40054FD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F83-E3C8-43C6-BC27-E6F8549A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F8E-81DB-47E1-9B66-8FB6741F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512-69D2-4908-B831-477B9C9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BA9-F5A5-4FBA-B0C5-307EC8D0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5A9-F6A3-4C65-B6AD-F0DB890F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50B6-48EF-4FB6-AB10-C292FE5CB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cticboy.arcticboy.com/view2.php?q=Picture%20Of%20Russian%20Money&amp;url=http://media.nowpublic.net/images//69/8/69841b4a33f9c63401e207c08990cdb4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10747440" cy="6257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Snap ITC"/>
              </a:rPr>
              <a:t>Economy of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Snap ITC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adley Hand ITC"/>
              </a:rPr>
              <a:t>By: Natalie Lunny, James O’Leary, Maura McDon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urlz MT"/>
              </a:rPr>
              <a:t>What's Good about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Large amounts of coal, oil and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Minerals like nickel, tin, and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A large fishing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Serbia provides wood from fo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A lot of manufacturing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Southwestern Russia produces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Moscow has a large transportatio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rowns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urlz MT"/>
              </a:rPr>
              <a:t>What's bad about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Communism, so a comm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They can become un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People wouldn’t make goods if there was no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The high prices make it hard to buy food and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Pollution from factories hurts health of Russ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Factories pour poisons in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They had a heavy industry which caused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Lucida Handwriting"/>
              </a:rPr>
              <a:t>Solu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communism failed they changed to a market economy now people can pick their own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start their own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owners can lower prices for food and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uture factories can make more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397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Farming</a:t>
            </a:r>
            <a:r>
              <a:rPr b="0" lang="en-US" sz="4400" spc="-1" strike="noStrike">
                <a:solidFill>
                  <a:srgbClr val="dddddd"/>
                </a:solidFill>
                <a:latin typeface="Script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Southwestern Russia grows grains like barley and 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They have dairy cows and ca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They also grow 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Most of the farming is 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There is also potatoes, corn, sugar beets, sunflower seeds, and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Snap ITC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There is bauxite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There is coal in ea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Copper is near the Yekaterinburg and Chelyabin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Fishing near the sea of Ja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G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Iron ore is found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Natural gas is also found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Nic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Petroleum is found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Tin is found in ea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Zinc is found near the sea of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454960" cy="6703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Gigi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Gigi"/>
              </a:rPr>
              <a:t>Manufact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Manufacturing centers are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Many of the early factories were a heav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The factories now changed to light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Recently they made clothing, shoes, and furn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Now they make consume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50000">
              <a:srgbClr val="ff00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664200"/>
            <a:ext cx="82296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99ff"/>
              </a:solidFill>
              <a:latin typeface="com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59092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ff"/>
                </a:solidFill>
                <a:latin typeface="comic"/>
              </a:rPr>
              <a:t>THE</a:t>
            </a:r>
            <a:br>
              <a:rPr sz="8800"/>
            </a:br>
            <a:r>
              <a:rPr b="0" lang="en-US" sz="8800" spc="-1" strike="noStrike">
                <a:solidFill>
                  <a:srgbClr val="0099ff"/>
                </a:solidFill>
                <a:latin typeface="comic"/>
              </a:rPr>
              <a:t>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14Z</dcterms:created>
  <dc:creator> </dc:creator>
  <dc:description/>
  <dc:language>en-US</dc:language>
  <cp:lastModifiedBy> </cp:lastModifiedBy>
  <dcterms:modified xsi:type="dcterms:W3CDTF">2010-12-20T15:22:02Z</dcterms:modified>
  <cp:revision>4</cp:revision>
  <dc:subject/>
  <dc:title>Economy of Russia</dc:title>
</cp:coreProperties>
</file>